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ED2-667A-4C54-BB42-76F5474E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AF3-CE8A-41FF-9AF0-B5C7F659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F08-C402-4387-83AD-D6B8D0AF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8F4-3F8F-4545-9CFD-A9445810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7CF-8B36-42AB-85CC-15D4FF83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7E3-6257-46EE-8179-431C1816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B7B-6C16-475C-9DC8-8AAB963A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CC3-764B-49E8-9BFD-05B154B3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2B5-361C-479D-B699-D4483497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D89-ED49-4BE2-8531-D04E5ABF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05E-28F8-438A-B346-6165EB0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54F-771C-415B-84BE-11485B3C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73BD-E4D8-4670-8F90-EB2A1557B36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22960"/>
            <a:ext cx="4427640" cy="15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????Boutros Rokaa"/>
              </a:rPr>
              <a:t>توبوا إلى ال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33360"/>
            <a:ext cx="5105520" cy="833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َبْ من حنانِك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طرةً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تحوّلُ القفر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عود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562720" cy="105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و أعطي ع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دمعة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ي حوضه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طفلاً أعود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43400" y="0"/>
            <a:ext cx="4800600" cy="105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عمقِ آثا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دَعوْ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َنصِت إلـ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صوتِ دُعا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1916280"/>
            <a:ext cx="5076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غيرَ وجهِ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ا رجَوْ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لقاه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أدبةُ رجا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08360" y="1916280"/>
            <a:ext cx="53341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إذا استبد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بيَ الخجَ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و أبكمَ العارُ فم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0"/>
            <a:ext cx="5148360" cy="103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نبضاتُ حُبِّكَ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َلْتزَل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حتّى النهايةِ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ي د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8:12Z</dcterms:created>
  <dc:creator>Charbel Azar</dc:creator>
  <dc:description/>
  <dc:language>en-US</dc:language>
  <cp:lastModifiedBy>-</cp:lastModifiedBy>
  <dcterms:modified xsi:type="dcterms:W3CDTF">2003-01-05T19:58:21Z</dcterms:modified>
  <cp:revision>5</cp:revision>
  <dc:subject/>
  <dc:title>PowerPoint Presentation</dc:title>
</cp:coreProperties>
</file>